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7792-C6BE-4970-AE56-2592290C7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057C-6CA1-4929-BABB-214AB2FF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A5BA-9753-444A-A24F-F87E826D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1C51-B3A6-4733-8BEF-2BB4503E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6122-87EB-4660-926E-C5E5C9E3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572A-9CCD-4155-B28A-F67D4695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A60D-4660-4DB8-86AF-373DF114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BEF8-FD22-4EE4-8414-C86A0E56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5626-D888-4221-930B-61D089F1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C69D-1613-44CB-8085-F0A46E19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AAC9-C588-4E32-B35B-B3CCE5F8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3108-2875-45EF-A8DB-62115DB3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6C2A-568C-4355-A80F-0E60C142C6AB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ovéPole 7"/>
          <p:cNvSpPr/>
          <p:nvPr/>
        </p:nvSpPr>
        <p:spPr>
          <a:xfrm>
            <a:off x="674640" y="879480"/>
            <a:ext cx="3349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INISTERSTVO PRO MÍSTNÍ ROZVOJ </a:t>
            </a:r>
            <a:br>
              <a:rPr sz="1200"/>
            </a:b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árodní orgán pro koordinac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9" descr="roh-01.png"/>
          <p:cNvPicPr/>
          <p:nvPr/>
        </p:nvPicPr>
        <p:blipFill>
          <a:blip r:embed="rId2"/>
          <a:stretch/>
        </p:blipFill>
        <p:spPr>
          <a:xfrm>
            <a:off x="5700600" y="0"/>
            <a:ext cx="3443400" cy="448452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12" descr="OPTP_CZ_RO_B_C-RGB.png"/>
          <p:cNvPicPr/>
          <p:nvPr/>
        </p:nvPicPr>
        <p:blipFill>
          <a:blip r:embed="rId3"/>
          <a:stretch/>
        </p:blipFill>
        <p:spPr>
          <a:xfrm>
            <a:off x="2897280" y="5819760"/>
            <a:ext cx="3349440" cy="75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7488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34ea2"/>
                </a:solidFill>
                <a:latin typeface="Calibri"/>
              </a:rPr>
              <a:t>Martin Obu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2109960"/>
            <a:ext cx="7416720" cy="1690560"/>
          </a:xfrm>
          <a:prstGeom prst="rect">
            <a:avLst/>
          </a:prstGeom>
          <a:noFill/>
          <a:ln w="0">
            <a:noFill/>
          </a:ln>
        </p:spPr>
        <p:txBody>
          <a:bodyPr lIns="74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34ea2"/>
                </a:solidFill>
                <a:latin typeface="Calibri"/>
              </a:rPr>
              <a:t>Ako sa nestratiť v preklade výsledkov hodnotenia do jazykov ostatných kmeňov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74880" rIns="11988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34ea2"/>
                </a:solidFill>
                <a:latin typeface="Calibri"/>
              </a:rPr>
              <a:t>24. říjen 201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43040" y="5959440"/>
            <a:ext cx="1085760" cy="44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 rot="16200000">
            <a:off x="-1962000" y="2728800"/>
            <a:ext cx="55454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ÝSLEDKY KOMUNIKÁCIE  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s://1.bp.blogspot.com/-xbsc62anhdA/XI3CHq538_I/AAAAAAAAhn0/Uw61X2hkdGgZMr0QmCZ7gwu9ZQm_EqFjQCLcBGAs/s1600/05-neandertais-e-humanos-primitivos-podem-ter-convivido-durante-milhares-de-anos-em-caverna-diferencas.jpg"/>
          <p:cNvPicPr/>
          <p:nvPr/>
        </p:nvPicPr>
        <p:blipFill>
          <a:blip r:embed="rId3"/>
          <a:stretch/>
        </p:blipFill>
        <p:spPr>
          <a:xfrm>
            <a:off x="2519280" y="1268280"/>
            <a:ext cx="4079880" cy="32734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"/>
          <p:cNvSpPr/>
          <p:nvPr/>
        </p:nvSpPr>
        <p:spPr>
          <a:xfrm>
            <a:off x="2519280" y="3876840"/>
            <a:ext cx="40798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pred 300 000 rok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1908000" y="495792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ž vtedy rozhodla o prežití celého druhu schopnosť komunikácie a učenia s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IERARCHIA POZNATKOV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61" name="TextovéPole 5"/>
          <p:cNvSpPr/>
          <p:nvPr/>
        </p:nvSpPr>
        <p:spPr>
          <a:xfrm>
            <a:off x="1268280" y="1619280"/>
            <a:ext cx="776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nformácie z rôznych zdrojov majú rôznu hodnotu a význam pre kmene a ich náčelníkov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1"/>
          <p:cNvSpPr/>
          <p:nvPr/>
        </p:nvSpPr>
        <p:spPr>
          <a:xfrm>
            <a:off x="1908000" y="5618160"/>
            <a:ext cx="4967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logický, konzistentný a presvedčivý opis toho čo robíme a prečo je to dôlež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le 7"/>
          <p:cNvSpPr/>
          <p:nvPr/>
        </p:nvSpPr>
        <p:spPr>
          <a:xfrm>
            <a:off x="2340000" y="4773600"/>
            <a:ext cx="496872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údaje dokazujúce zmeny (pozitívne), ale bez spoľahlivého určenia príč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8"/>
          <p:cNvSpPr/>
          <p:nvPr/>
        </p:nvSpPr>
        <p:spPr>
          <a:xfrm>
            <a:off x="2843280" y="3916440"/>
            <a:ext cx="48974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preukázanie kauzality s využitím kontrolnej (porovnávacej ) skupi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9"/>
          <p:cNvSpPr/>
          <p:nvPr/>
        </p:nvSpPr>
        <p:spPr>
          <a:xfrm>
            <a:off x="3451320" y="3068640"/>
            <a:ext cx="4841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inimálne jedno nezávislé hodnotenie potvrdzujúce závery ohľadom kauz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ounded Rectangle 10"/>
          <p:cNvSpPr/>
          <p:nvPr/>
        </p:nvSpPr>
        <p:spPr>
          <a:xfrm>
            <a:off x="4000680" y="2205000"/>
            <a:ext cx="470196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štandardizované postupy pre zabezpečenie konzistentnej replikáci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5724360" y="64404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c000"/>
                </a:solidFill>
                <a:latin typeface="Arial"/>
              </a:rPr>
              <a:t>Zdroj: N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Round icon. Download flag icon of European Union at PNG format"/>
          <p:cNvPicPr/>
          <p:nvPr/>
        </p:nvPicPr>
        <p:blipFill>
          <a:blip r:embed="rId3"/>
          <a:stretch/>
        </p:blipFill>
        <p:spPr>
          <a:xfrm>
            <a:off x="720720" y="5618160"/>
            <a:ext cx="1095480" cy="822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Round icon. Download flag icon of European Union at PNG format"/>
          <p:cNvPicPr/>
          <p:nvPr/>
        </p:nvPicPr>
        <p:blipFill>
          <a:blip r:embed="rId4"/>
          <a:stretch/>
        </p:blipFill>
        <p:spPr>
          <a:xfrm>
            <a:off x="1244520" y="4773600"/>
            <a:ext cx="1095480" cy="820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27160" y="4076640"/>
            <a:ext cx="625680" cy="469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Slovakia flag vector - free download"/>
          <p:cNvPicPr/>
          <p:nvPr/>
        </p:nvPicPr>
        <p:blipFill>
          <a:blip r:embed="rId6"/>
          <a:stretch/>
        </p:blipFill>
        <p:spPr>
          <a:xfrm>
            <a:off x="7451640" y="491004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Slovakia flag vector - free download"/>
          <p:cNvPicPr/>
          <p:nvPr/>
        </p:nvPicPr>
        <p:blipFill>
          <a:blip r:embed="rId7"/>
          <a:stretch/>
        </p:blipFill>
        <p:spPr>
          <a:xfrm>
            <a:off x="8020080" y="42433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Slovakia flag vector - free download"/>
          <p:cNvPicPr/>
          <p:nvPr/>
        </p:nvPicPr>
        <p:blipFill>
          <a:blip r:embed="rId8"/>
          <a:stretch/>
        </p:blipFill>
        <p:spPr>
          <a:xfrm>
            <a:off x="7034040" y="5707080"/>
            <a:ext cx="547920" cy="54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TYPICKÉ HODNOTENI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78" name="Rounded Rectangle 9"/>
          <p:cNvSpPr/>
          <p:nvPr/>
        </p:nvSpPr>
        <p:spPr>
          <a:xfrm>
            <a:off x="2452680" y="4214880"/>
            <a:ext cx="140796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6"/>
          <p:cNvCxnSpPr/>
          <p:nvPr/>
        </p:nvCxnSpPr>
        <p:spPr>
          <a:xfrm flipV="1">
            <a:off x="2410920" y="1124640"/>
            <a:ext cx="1080" cy="4033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80" name="Straight Arrow Connector 22"/>
          <p:cNvCxnSpPr/>
          <p:nvPr/>
        </p:nvCxnSpPr>
        <p:spPr>
          <a:xfrm flipV="1">
            <a:off x="2055600" y="4790880"/>
            <a:ext cx="6909480" cy="784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181" name="Rounded Rectangle 25"/>
          <p:cNvSpPr/>
          <p:nvPr/>
        </p:nvSpPr>
        <p:spPr>
          <a:xfrm>
            <a:off x="3463920" y="3589200"/>
            <a:ext cx="290844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ber a spracovanie úda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26"/>
          <p:cNvSpPr/>
          <p:nvPr/>
        </p:nvSpPr>
        <p:spPr>
          <a:xfrm>
            <a:off x="6012000" y="2924280"/>
            <a:ext cx="1800000" cy="5760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27"/>
          <p:cNvSpPr/>
          <p:nvPr/>
        </p:nvSpPr>
        <p:spPr>
          <a:xfrm>
            <a:off x="7451640" y="2225520"/>
            <a:ext cx="151308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ávery a     odporúč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4"/>
          <p:cNvSpPr/>
          <p:nvPr/>
        </p:nvSpPr>
        <p:spPr>
          <a:xfrm>
            <a:off x="4788000" y="5084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Realizácia hodnot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5"/>
          <p:cNvSpPr/>
          <p:nvPr/>
        </p:nvSpPr>
        <p:spPr>
          <a:xfrm rot="16200000">
            <a:off x="462960" y="29563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Význam pre komunikác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2"/>
          <p:cNvSpPr/>
          <p:nvPr/>
        </p:nvSpPr>
        <p:spPr>
          <a:xfrm>
            <a:off x="1905120" y="5732640"/>
            <a:ext cx="705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A KOMUNIKÁCIU VÝSLEDKOV HODNOTENIA OSTÁVA NAJMENEJ ČA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O BRAŤ DO ÚVAH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90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znanie jazyka a kultúry kmeňov si vyžaduje dostatočný č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záverov a odporúčaní nie je jednorazový pro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asovanie ovplyvňuje prijatie správy (krátkodobé benefity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odnotitelia často nedisponujú expertmi pre komunikáci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ovéPole 5"/>
          <p:cNvSpPr/>
          <p:nvPr/>
        </p:nvSpPr>
        <p:spPr>
          <a:xfrm>
            <a:off x="1384200" y="43657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i sa v kmeňoch vyvinul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a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kupina zberač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v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poznatkov (vs. lovci informácií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římá spojovací čára 14"/>
          <p:cNvSpPr/>
          <p:nvPr/>
        </p:nvSpPr>
        <p:spPr>
          <a:xfrm>
            <a:off x="1628640" y="4365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ovéPole 5"/>
          <p:cNvSpPr/>
          <p:nvPr/>
        </p:nvSpPr>
        <p:spPr>
          <a:xfrm>
            <a:off x="1415880" y="491796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efektívnu komunikáciu vedúcu k poznaniu potrebujeme stabilitu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římá spojovací čára 14"/>
          <p:cNvSpPr/>
          <p:nvPr/>
        </p:nvSpPr>
        <p:spPr>
          <a:xfrm>
            <a:off x="1616040" y="49179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ZÁV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5" name="TextovéPole 5"/>
          <p:cNvSpPr/>
          <p:nvPr/>
        </p:nvSpPr>
        <p:spPr>
          <a:xfrm>
            <a:off x="1262160" y="2332080"/>
            <a:ext cx="763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D NAMI STOJÍ SPOLOČNÁ VÝZVA: PRISPIEŤ K VYTVORENIU SPOLOČNEJ KULÚRY POZNANIA, KTORÁ BUDE DOSTATOČNE ATRAKTÍVNA PRE VŠETKY KMENE ŽIJÚCE NA NAŠOM ÚZEMÍ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Obrázek 7" descr="noc.jpg"/>
          <p:cNvPicPr/>
          <p:nvPr/>
        </p:nvPicPr>
        <p:blipFill>
          <a:blip r:embed="rId1"/>
          <a:stretch/>
        </p:blipFill>
        <p:spPr>
          <a:xfrm>
            <a:off x="-4645080" y="-2263680"/>
            <a:ext cx="14762160" cy="9151920"/>
          </a:xfrm>
          <a:prstGeom prst="rect">
            <a:avLst/>
          </a:prstGeom>
          <a:ln w="0">
            <a:noFill/>
          </a:ln>
        </p:spPr>
      </p:pic>
      <p:pic>
        <p:nvPicPr>
          <p:cNvPr id="20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417600" y="2565360"/>
            <a:ext cx="8281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ĎAKUJEM ZA VAŠU POZORNOSŤ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uch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@ca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www.ca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ázek 7" descr="noc.jpg"/>
          <p:cNvPicPr/>
          <p:nvPr/>
        </p:nvPicPr>
        <p:blipFill>
          <a:blip r:embed="rId1"/>
          <a:stretch/>
        </p:blipFill>
        <p:spPr>
          <a:xfrm>
            <a:off x="-2124000" y="-1035000"/>
            <a:ext cx="14760360" cy="9151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6200" y="3092040"/>
            <a:ext cx="878544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Je čas prejsť od komunikácie výsledkov hodnotenia k systematickému využívaniu poznatko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ázek 12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rázek 5" descr="noc.jpg"/>
          <p:cNvPicPr/>
          <p:nvPr/>
        </p:nvPicPr>
        <p:blipFill>
          <a:blip r:embed="rId1"/>
          <a:stretch/>
        </p:blipFill>
        <p:spPr>
          <a:xfrm>
            <a:off x="-5618160" y="-316080"/>
            <a:ext cx="14762160" cy="9152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11"/>
          <p:cNvSpPr/>
          <p:nvPr/>
        </p:nvSpPr>
        <p:spPr>
          <a:xfrm>
            <a:off x="861840" y="2781360"/>
            <a:ext cx="828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1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Blízke a vzdialené kmene na území EŠ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 plyv prostredia na prenos sprá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ie každá informácia má rovnakú hodno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4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aj po hodnot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 rot="16200000">
            <a:off x="-1042920" y="1809360"/>
            <a:ext cx="370692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ŽIJÚCE OKOLO NÁS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96" name="Flowchart: Connector 7"/>
          <p:cNvSpPr/>
          <p:nvPr/>
        </p:nvSpPr>
        <p:spPr>
          <a:xfrm>
            <a:off x="3851280" y="2060640"/>
            <a:ext cx="1476360" cy="1530360"/>
          </a:xfrm>
          <a:prstGeom prst="flowChartConnector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Riad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lowchart: Connector 8"/>
          <p:cNvSpPr/>
          <p:nvPr/>
        </p:nvSpPr>
        <p:spPr>
          <a:xfrm>
            <a:off x="1619280" y="2441520"/>
            <a:ext cx="2089080" cy="1979640"/>
          </a:xfrm>
          <a:prstGeom prst="flowChartConnector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Kontr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lowchart: Connector 9"/>
          <p:cNvSpPr/>
          <p:nvPr/>
        </p:nvSpPr>
        <p:spPr>
          <a:xfrm>
            <a:off x="3149640" y="4456080"/>
            <a:ext cx="1206360" cy="1184400"/>
          </a:xfrm>
          <a:prstGeom prst="flowChartConnector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Monito-rov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owchart: Connector 11"/>
          <p:cNvSpPr/>
          <p:nvPr/>
        </p:nvSpPr>
        <p:spPr>
          <a:xfrm>
            <a:off x="5267160" y="3308400"/>
            <a:ext cx="1079640" cy="102060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Publi-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owchart: Connector 10"/>
          <p:cNvSpPr/>
          <p:nvPr/>
        </p:nvSpPr>
        <p:spPr>
          <a:xfrm>
            <a:off x="4811760" y="4413240"/>
            <a:ext cx="2352600" cy="23306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Implement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Connector 12"/>
          <p:cNvSpPr/>
          <p:nvPr/>
        </p:nvSpPr>
        <p:spPr>
          <a:xfrm>
            <a:off x="6084720" y="1413000"/>
            <a:ext cx="1295640" cy="1295280"/>
          </a:xfrm>
          <a:prstGeom prst="flowChartConnector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 rot="16200000">
            <a:off x="-1765800" y="2315160"/>
            <a:ext cx="47880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BLÍZKE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hyb kmeňa hodnotiteľov vzbudzuje záujem blízky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5"/>
          <p:cNvSpPr/>
          <p:nvPr/>
        </p:nvSpPr>
        <p:spPr>
          <a:xfrm>
            <a:off x="1246320" y="227808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môže vyprodukovať obmedzený počet  dôležitých zist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existujú členovia kmeňov na komunikáciu s hodnotiteľm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ločný jazyk ako podmienka porozumen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rázek 7" descr="noc.jpg"/>
          <p:cNvPicPr/>
          <p:nvPr/>
        </p:nvPicPr>
        <p:blipFill>
          <a:blip r:embed="rId1"/>
          <a:stretch/>
        </p:blipFill>
        <p:spPr>
          <a:xfrm>
            <a:off x="-4673520" y="-206388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 rot="16200000">
            <a:off x="-1909440" y="2458800"/>
            <a:ext cx="507528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 Z HODNOT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17" name="TextovéPole 5"/>
          <p:cNvSpPr/>
          <p:nvPr/>
        </p:nvSpPr>
        <p:spPr>
          <a:xfrm>
            <a:off x="1268280" y="1619280"/>
            <a:ext cx="787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y ovplyvňuje prostredie, v ktorom prebieha komunikác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5"/>
          <p:cNvSpPr/>
          <p:nvPr/>
        </p:nvSpPr>
        <p:spPr>
          <a:xfrm>
            <a:off x="1246320" y="2278080"/>
            <a:ext cx="82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, ktoré majú záujem učiť sa vytvárajú nízke, organické štruktú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ostredie vo väčšine blízkych kmeňov na Slovensku (v iných krajinách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Výsledok vyhľadávania obrázkov pre dopyt leader graphic"/>
          <p:cNvPicPr/>
          <p:nvPr/>
        </p:nvPicPr>
        <p:blipFill>
          <a:blip r:embed="rId3"/>
          <a:stretch/>
        </p:blipFill>
        <p:spPr>
          <a:xfrm>
            <a:off x="5796000" y="3716280"/>
            <a:ext cx="3125880" cy="1743120"/>
          </a:xfrm>
          <a:prstGeom prst="rect">
            <a:avLst/>
          </a:prstGeom>
          <a:ln w="0">
            <a:noFill/>
          </a:ln>
        </p:spPr>
      </p:pic>
      <p:pic>
        <p:nvPicPr>
          <p:cNvPr id="124" name="Diagram 3" descr=""/>
          <p:cNvPicPr/>
          <p:nvPr/>
        </p:nvPicPr>
        <p:blipFill>
          <a:blip r:embed="rId4"/>
          <a:stretch/>
        </p:blipFill>
        <p:spPr>
          <a:xfrm>
            <a:off x="1474920" y="3706920"/>
            <a:ext cx="3822480" cy="1724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5803920" y="5459400"/>
            <a:ext cx="311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558ed5"/>
                </a:solidFill>
                <a:latin typeface="Arial"/>
              </a:rPr>
              <a:t>1 náčelník pre 4 člen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ZDIALENÉ KMENE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29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owchart: Connector 14"/>
          <p:cNvSpPr/>
          <p:nvPr/>
        </p:nvSpPr>
        <p:spPr>
          <a:xfrm>
            <a:off x="1332000" y="1057320"/>
            <a:ext cx="1944720" cy="1843200"/>
          </a:xfrm>
          <a:prstGeom prst="flowChartConnector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Verejnos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lowchart: Connector 15"/>
          <p:cNvSpPr/>
          <p:nvPr/>
        </p:nvSpPr>
        <p:spPr>
          <a:xfrm>
            <a:off x="4245120" y="2314440"/>
            <a:ext cx="1295280" cy="1224000"/>
          </a:xfrm>
          <a:prstGeom prst="flowChartConnector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Akade-mici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Connector 16"/>
          <p:cNvSpPr/>
          <p:nvPr/>
        </p:nvSpPr>
        <p:spPr>
          <a:xfrm>
            <a:off x="1838160" y="4902120"/>
            <a:ext cx="1581480" cy="1473120"/>
          </a:xfrm>
          <a:prstGeom prst="flowChartConnector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Komi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owchart: Connector 17"/>
          <p:cNvSpPr/>
          <p:nvPr/>
        </p:nvSpPr>
        <p:spPr>
          <a:xfrm>
            <a:off x="5940360" y="5300640"/>
            <a:ext cx="1359000" cy="1354320"/>
          </a:xfrm>
          <a:prstGeom prst="flowChartConnector">
            <a:avLst/>
          </a:prstGeom>
          <a:solidFill>
            <a:srgbClr val="fcc9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olit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owchart: Connector 18"/>
          <p:cNvSpPr/>
          <p:nvPr/>
        </p:nvSpPr>
        <p:spPr>
          <a:xfrm>
            <a:off x="6156360" y="3060720"/>
            <a:ext cx="1860480" cy="1747800"/>
          </a:xfrm>
          <a:prstGeom prst="flowChartConnector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Admini-stratí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KÁŽKY PRI KOMUNIKÁCII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s://pbs.twimg.com/media/DdOAR2qW4AABaE8.jpg"/>
          <p:cNvPicPr/>
          <p:nvPr/>
        </p:nvPicPr>
        <p:blipFill>
          <a:blip r:embed="rId3"/>
          <a:stretch/>
        </p:blipFill>
        <p:spPr>
          <a:xfrm>
            <a:off x="1547640" y="1673280"/>
            <a:ext cx="7296480" cy="421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Slovakia flag vector - free download"/>
          <p:cNvPicPr/>
          <p:nvPr/>
        </p:nvPicPr>
        <p:blipFill>
          <a:blip r:embed="rId4"/>
          <a:stretch/>
        </p:blipFill>
        <p:spPr>
          <a:xfrm>
            <a:off x="6012000" y="1673280"/>
            <a:ext cx="1339560" cy="1341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50920" y="1554120"/>
            <a:ext cx="2108160" cy="158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VZDIALENÉ 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medzené možnosti stretnutia vzdialený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znanie kultúry a zvykov týchto kmeňov je dôlež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iac ako na forme záleží na osobách, ktoré komunikujú správ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ultúra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komunik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ácie a pozn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2T18:11:19Z</dcterms:created>
  <dc:creator>Ada</dc:creator>
  <dc:description/>
  <dc:language>en-US</dc:language>
  <cp:lastModifiedBy>Windows User</cp:lastModifiedBy>
  <dcterms:modified xsi:type="dcterms:W3CDTF">2019-10-24T10:39:24Z</dcterms:modified>
  <cp:revision>166</cp:revision>
  <dc:subject/>
  <dc:title>HODNOTENIE – V.I.P. ALEBO ČIERNY PASAŽIER NA LINKE BRATISLAVA-BRUSEL</dc:title>
</cp:coreProperties>
</file>